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26C-9D7B-43ED-8C44-E2550D94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D33-C035-4D06-8EC6-7728F3FB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F5C-045F-40D7-AB9D-88AAE4FA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64D-CD23-44AD-97C3-60EEE2F7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6A4D-DABD-42DA-9359-EB49727D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ED6B-DC9A-4588-889B-C0849F66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34F-E8CB-4778-B8BD-FE5FE475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95D-9BEE-49A3-9AC8-D62E0582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9AD-1F5D-4617-B1A0-462DD190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8AE5-902C-4CA6-8CA3-6C128A8B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757-0DA9-41E6-9C4B-0A97E2C5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6DA-6A6B-46D9-BEC6-221081BF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97EE-811F-4F12-88D8-E635C8B92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" y="685800"/>
            <a:ext cx="62946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3:47:42Z</dcterms:created>
  <dc:creator>nw sd</dc:creator>
  <dc:description/>
  <dc:language>en-US</dc:language>
  <cp:lastModifiedBy>nw sd</cp:lastModifiedBy>
  <dcterms:modified xsi:type="dcterms:W3CDTF">2009-01-30T13:59:33Z</dcterms:modified>
  <cp:revision>2</cp:revision>
  <dc:subject/>
  <dc:title>PowerPoint Presentation</dc:title>
</cp:coreProperties>
</file>